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68B9-CE9B-420F-BD3F-71596A70B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8200" y="1798560"/>
            <a:ext cx="7477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8200" y="2517840"/>
            <a:ext cx="74772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38200" y="4428360"/>
            <a:ext cx="74772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B65D-03EB-4FCF-9940-D070E34BC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8200" y="1798560"/>
            <a:ext cx="7477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8200" y="2517840"/>
            <a:ext cx="36486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9680" y="2517840"/>
            <a:ext cx="36486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8200" y="4428360"/>
            <a:ext cx="36486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69680" y="4428360"/>
            <a:ext cx="36486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FD53-DD0C-4B0C-93ED-D2FA3D1D4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8200" y="1798560"/>
            <a:ext cx="7477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8200" y="2517840"/>
            <a:ext cx="2407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6120" y="2517840"/>
            <a:ext cx="2407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94400" y="2517840"/>
            <a:ext cx="2407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38200" y="4428360"/>
            <a:ext cx="2407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66120" y="4428360"/>
            <a:ext cx="2407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94400" y="4428360"/>
            <a:ext cx="240732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F023-944F-43C4-B7EB-961E1934A6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8200" y="1798560"/>
            <a:ext cx="7477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38200" y="2517840"/>
            <a:ext cx="74772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5D66-247B-41C0-949F-F20F856811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8200" y="1798560"/>
            <a:ext cx="7477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38200" y="2517840"/>
            <a:ext cx="74772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A7DB-EA42-40BE-A25F-FD328C6A6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8200" y="1798560"/>
            <a:ext cx="7477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8200" y="2517840"/>
            <a:ext cx="3648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69680" y="2517840"/>
            <a:ext cx="3648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DBD2-9374-4BB6-9F50-72F685C6C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8200" y="1798560"/>
            <a:ext cx="7477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585F-A5AC-4327-8115-B33026BDE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38200" y="1798560"/>
            <a:ext cx="7477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2E12-D6BE-409E-AD90-EFA8A604C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8200" y="1798560"/>
            <a:ext cx="7477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8200" y="2517840"/>
            <a:ext cx="36486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69680" y="2517840"/>
            <a:ext cx="3648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38200" y="4428360"/>
            <a:ext cx="36486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A3E8-3E58-484E-8EAB-D872F9CC6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8200" y="1798560"/>
            <a:ext cx="7477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8200" y="2517840"/>
            <a:ext cx="3648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9680" y="2517840"/>
            <a:ext cx="36486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69680" y="4428360"/>
            <a:ext cx="36486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BE49-74D9-45B1-AE87-EEA73B541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8200" y="1798560"/>
            <a:ext cx="7477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8200" y="2517840"/>
            <a:ext cx="36486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9680" y="2517840"/>
            <a:ext cx="36486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8200" y="4428360"/>
            <a:ext cx="74772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7FC5-925E-42F1-B5B2-A11176A1F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438200" y="2517840"/>
            <a:ext cx="74772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a6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6c6a6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a6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6c6a6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a6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6c6a6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a6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6c6a6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a6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a6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a6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4F0B-92E5-435C-8F9D-2DEDCCE79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438200" y="1798560"/>
            <a:ext cx="7477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c6a6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c6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76000" y="3860280"/>
            <a:ext cx="7086600" cy="31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odel approach to future offshore exploration </a:t>
            </a:r>
            <a:br>
              <a:rPr sz="48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ter Rosenkranz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trecht 15 January 2009</a:t>
            </a:r>
            <a:br>
              <a:rPr sz="2000"/>
            </a:br>
            <a:endParaRPr b="0" lang="en-US" sz="2000" spc="-1" strike="noStrike">
              <a:solidFill>
                <a:srgbClr val="6c6a6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8200" y="1798560"/>
            <a:ext cx="7477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c6a6f"/>
                </a:solidFill>
                <a:latin typeface="Arial"/>
              </a:rPr>
              <a:t>ProSim Output </a:t>
            </a:r>
            <a:endParaRPr b="0" lang="en-US" sz="30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74772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reserves + production profile</a:t>
            </a: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flows for State and Licensee</a:t>
            </a: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38200" cy="1444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38200" y="0"/>
            <a:ext cx="1444680" cy="1444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6407280"/>
            <a:ext cx="9145440" cy="450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58920" y="3500280"/>
            <a:ext cx="78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im may give answers on strategic issue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4076640"/>
            <a:ext cx="81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Is the level of exploration drilling sufficient to ensure that all economic prospects are drilled in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515772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ffect of (fiscal) stimulation meas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35640" y="476280"/>
            <a:ext cx="21607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c6a6f"/>
                </a:solidFill>
                <a:latin typeface="Arial"/>
              </a:rPr>
              <a:t>Results</a:t>
            </a:r>
            <a:endParaRPr b="0" lang="en-US" sz="3000" spc="-1" strike="noStrike">
              <a:solidFill>
                <a:srgbClr val="6c6a6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38200" cy="1444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38200" y="0"/>
            <a:ext cx="1444680" cy="1444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6407280"/>
            <a:ext cx="9145440" cy="450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482120" y="5300640"/>
            <a:ext cx="71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5 wells/year there will be some 70 wells in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ng drilled in 14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76360" y="1557360"/>
            <a:ext cx="5391000" cy="3705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V="1">
            <a:off x="2987640" y="3213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123640" y="321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32360" y="404640"/>
            <a:ext cx="15843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c6a6f"/>
                </a:solidFill>
                <a:latin typeface="Arial"/>
              </a:rPr>
              <a:t>Results</a:t>
            </a:r>
            <a:endParaRPr b="0" lang="en-US" sz="3000" spc="-1" strike="noStrike">
              <a:solidFill>
                <a:srgbClr val="6c6a6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38200" cy="1444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38200" y="0"/>
            <a:ext cx="1444680" cy="1444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6407280"/>
            <a:ext cx="9145440" cy="45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19280" y="46530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403280" y="1484280"/>
            <a:ext cx="6734160" cy="440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03640" y="333360"/>
            <a:ext cx="18003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c6a6f"/>
                </a:solidFill>
                <a:latin typeface="Arial"/>
              </a:rPr>
              <a:t>Results</a:t>
            </a:r>
            <a:endParaRPr b="0" lang="en-US" sz="3000" spc="-1" strike="noStrike">
              <a:solidFill>
                <a:srgbClr val="6c6a6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38200" cy="1444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38200" y="0"/>
            <a:ext cx="1444680" cy="1444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6407280"/>
            <a:ext cx="9145440" cy="450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19280" y="46530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403280" y="1484280"/>
            <a:ext cx="6724800" cy="439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03640" y="333360"/>
            <a:ext cx="18003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c6a6f"/>
                </a:solidFill>
                <a:latin typeface="Arial"/>
              </a:rPr>
              <a:t>Results</a:t>
            </a:r>
            <a:endParaRPr b="0" lang="en-US" sz="3000" spc="-1" strike="noStrike">
              <a:solidFill>
                <a:srgbClr val="6c6a6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38200" cy="1444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38200" y="0"/>
            <a:ext cx="1444680" cy="1444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6407280"/>
            <a:ext cx="9145440" cy="450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19280" y="46530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03280" y="1484280"/>
            <a:ext cx="6734160" cy="441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31640" y="1052280"/>
            <a:ext cx="51850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a6f"/>
                </a:solidFill>
                <a:latin typeface="Arial"/>
              </a:rPr>
              <a:t>Conclusions offshore exploration</a:t>
            </a:r>
            <a:endParaRPr b="0" lang="en-US" sz="26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8920" y="2349360"/>
            <a:ext cx="74772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 number of exploration wells : &gt; 10 / year</a:t>
            </a: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38200" cy="144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438200" y="0"/>
            <a:ext cx="1444680" cy="1444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6407280"/>
            <a:ext cx="9145440" cy="450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116000" y="4581360"/>
            <a:ext cx="788508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 of exploration for 100 $/bb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5 wells / yea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: 2041 (20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10 wells / yea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: 2028 (20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2852640"/>
            <a:ext cx="795672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 of exploration for 50 $/bb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5 wells / yea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: 2019 (2023 with proposed meas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10 wells / yea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: 2015 (20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31640" y="1052280"/>
            <a:ext cx="51850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a6f"/>
                </a:solidFill>
                <a:latin typeface="Arial"/>
              </a:rPr>
              <a:t>Conclusions offshore exploration</a:t>
            </a:r>
            <a:endParaRPr b="0" lang="en-US" sz="26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772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arks:</a:t>
            </a: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38200" cy="1444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38200" y="0"/>
            <a:ext cx="1444680" cy="1444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0" y="6407280"/>
            <a:ext cx="9145440" cy="450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95280" y="4292640"/>
            <a:ext cx="788508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clusions may be too optimistic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No back-out in the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No limitation in access, processing and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276640"/>
            <a:ext cx="85694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clusions may be too conservative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The infrastructure will be longer available then we think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New prospects will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38200" cy="144468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38200" y="0"/>
            <a:ext cx="1444680" cy="1444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6407280"/>
            <a:ext cx="9145440" cy="450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32000" y="620640"/>
            <a:ext cx="4826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a6f"/>
                </a:solidFill>
                <a:latin typeface="Arial"/>
              </a:rPr>
              <a:t>We need to know the oil pr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332000" y="1557360"/>
            <a:ext cx="6657840" cy="413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38200" cy="1444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38200" y="0"/>
            <a:ext cx="1444680" cy="14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-36360" y="6434280"/>
            <a:ext cx="9145440" cy="45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332000" y="1557360"/>
            <a:ext cx="6657840" cy="4138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32000" y="620640"/>
            <a:ext cx="4826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a6f"/>
                </a:solidFill>
                <a:latin typeface="Arial"/>
              </a:rPr>
              <a:t>We need to know the rig rate</a:t>
            </a:r>
            <a:br>
              <a:rPr sz="2600"/>
            </a:br>
            <a:r>
              <a:rPr b="0" lang="en-US" sz="2600" spc="-1" strike="noStrike">
                <a:solidFill>
                  <a:srgbClr val="6c6a6f"/>
                </a:solidFill>
                <a:latin typeface="Arial"/>
              </a:rPr>
              <a:t>(development co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38200" cy="1444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438200" y="0"/>
            <a:ext cx="1444680" cy="1444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-36360" y="6434280"/>
            <a:ext cx="9145440" cy="45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332000" y="1557360"/>
            <a:ext cx="6657840" cy="4138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332000" y="1557360"/>
            <a:ext cx="6657840" cy="4138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32000" y="620640"/>
            <a:ext cx="4826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a6f"/>
                </a:solidFill>
                <a:latin typeface="Arial"/>
              </a:rPr>
              <a:t>We need to know the pro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38200" cy="1444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38200" y="0"/>
            <a:ext cx="1444680" cy="144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-36360" y="6434280"/>
            <a:ext cx="9145440" cy="45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332000" y="1557360"/>
            <a:ext cx="6657840" cy="4138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132000" y="620640"/>
            <a:ext cx="5112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a6f"/>
                </a:solidFill>
                <a:latin typeface="Arial"/>
              </a:rPr>
              <a:t>We need to know the activity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26560" y="5877000"/>
            <a:ext cx="831708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a6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6c6a6f"/>
                </a:solidFill>
                <a:latin typeface="Arial"/>
              </a:rPr>
              <a:t>Predicting is very difficult, especially if it is about the future”   (Niels Bohr)</a:t>
            </a:r>
            <a:endParaRPr b="0" lang="en-US" sz="2000" spc="-1" strike="noStrike">
              <a:solidFill>
                <a:srgbClr val="6c6a6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31640" y="476280"/>
            <a:ext cx="5784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Si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te Carlo simulation Model</a:t>
            </a:r>
            <a:endParaRPr b="0" lang="en-US" sz="26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351640" cy="24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l generates a field development plan for every prospect taking into account:</a:t>
            </a: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serves </a:t>
            </a: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stance to infrastructure</a:t>
            </a: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ductivity</a:t>
            </a: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bandonment data and Opex of host platform</a:t>
            </a: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38200" cy="1444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38200" y="0"/>
            <a:ext cx="1444680" cy="1444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6407280"/>
            <a:ext cx="9145440" cy="450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8360" y="4221000"/>
            <a:ext cx="838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se of ‘success’  the model generates new infrastructure that can be used by the remaining pro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229360"/>
            <a:ext cx="838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ision to drill is based on a full economic evaluation and EMV or RVIR screening criter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4680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a6f"/>
                </a:solidFill>
                <a:latin typeface="Arial"/>
              </a:rPr>
              <a:t>Opex host platform and</a:t>
            </a:r>
            <a:br>
              <a:rPr sz="2600"/>
            </a:br>
            <a:r>
              <a:rPr b="0" lang="en-US" sz="2600" spc="-1" strike="noStrike">
                <a:solidFill>
                  <a:srgbClr val="6c6a6f"/>
                </a:solidFill>
                <a:latin typeface="Arial"/>
              </a:rPr>
              <a:t>Abandonment deferment</a:t>
            </a:r>
            <a:endParaRPr b="0" lang="en-US" sz="26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4508640"/>
            <a:ext cx="871380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profile is added to existing profile of host platform.</a:t>
            </a: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abandonment date is when sum of profiles becomes lower than minimum production</a:t>
            </a: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Opex platform is shared on basis of throughput</a:t>
            </a: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a6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38200" cy="1444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438200" y="0"/>
            <a:ext cx="1444680" cy="1444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6407280"/>
            <a:ext cx="9145440" cy="45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11280" y="1413000"/>
            <a:ext cx="7632720" cy="300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3640" y="981000"/>
            <a:ext cx="28083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Input</a:t>
            </a:r>
            <a:endParaRPr b="0" lang="en-US" sz="2800" spc="-1" strike="noStrike">
              <a:solidFill>
                <a:srgbClr val="6c6a6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45964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spect database (TNO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OS, LSV,MSV,HSV, productivity, xy-coordinate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6c6a6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latform databas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bandonment date, Opex, xy coordinates)</a:t>
            </a:r>
            <a:endParaRPr b="0" lang="en-US" sz="1600" spc="-1" strike="noStrike">
              <a:solidFill>
                <a:srgbClr val="6c6a6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ploration &amp; development cost parameters </a:t>
            </a:r>
            <a:endParaRPr b="0" lang="en-US" sz="3100" spc="-1" strike="noStrike">
              <a:solidFill>
                <a:srgbClr val="6c6a6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conomic analys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apex, Opex, production profile, EMV, RVIR)</a:t>
            </a:r>
            <a:endParaRPr b="0" lang="en-US" sz="1600" spc="-1" strike="noStrike">
              <a:solidFill>
                <a:srgbClr val="6c6a6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creening Ranking Criter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er operator)</a:t>
            </a:r>
            <a:endParaRPr b="0" lang="en-US" sz="1600" spc="-1" strike="noStrike">
              <a:solidFill>
                <a:srgbClr val="6c6a6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ctivity leve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er operator)</a:t>
            </a:r>
            <a:endParaRPr b="0" lang="en-US" sz="1600" spc="-1" strike="noStrike">
              <a:solidFill>
                <a:srgbClr val="6c6a6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il (gas) price</a:t>
            </a:r>
            <a:endParaRPr b="0" lang="en-US" sz="3100" spc="-1" strike="noStrike">
              <a:solidFill>
                <a:srgbClr val="6c6a6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38200" cy="1444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38200" y="0"/>
            <a:ext cx="1444680" cy="1444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-36360" y="6434280"/>
            <a:ext cx="9145440" cy="45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31640" y="691920"/>
            <a:ext cx="43578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c6a6f"/>
                </a:solidFill>
                <a:latin typeface="Arial"/>
              </a:rPr>
              <a:t>ProSim Work flow</a:t>
            </a:r>
            <a:endParaRPr b="0" lang="en-US" sz="3000" spc="-1" strike="noStrike">
              <a:solidFill>
                <a:srgbClr val="6c6a6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38200" cy="1444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38200" y="0"/>
            <a:ext cx="1444680" cy="1444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6407280"/>
            <a:ext cx="9145440" cy="45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32000" y="1557360"/>
            <a:ext cx="71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=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EMV / RVIR for all pro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Select prospect for dri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In case of Suc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Draw a reserve from volume distrib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Recalculate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Adjust abandonment date host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Adjust infrastructure database in cas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platform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46530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63640" y="4797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next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5157720"/>
            <a:ext cx="781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nex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are no prospects / platforms left then 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3:17:03Z</dcterms:created>
  <dc:creator>ICT Services</dc:creator>
  <dc:description/>
  <dc:language>en-US</dc:language>
  <cp:lastModifiedBy>811625</cp:lastModifiedBy>
  <cp:lastPrinted>2008-03-18T15:02:26Z</cp:lastPrinted>
  <dcterms:modified xsi:type="dcterms:W3CDTF">2009-01-14T22:26:15Z</dcterms:modified>
  <cp:revision>57</cp:revision>
  <dc:subject/>
  <dc:title>titel presentatie subtitel</dc:title>
</cp:coreProperties>
</file>